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55600" y="0"/>
            <a:ext cx="9637560" cy="6845400"/>
            <a:chOff x="255600" y="0"/>
            <a:chExt cx="9637560" cy="6845400"/>
          </a:xfrm>
        </p:grpSpPr>
        <p:sp>
          <p:nvSpPr>
            <p:cNvPr id="1" name=""/>
            <p:cNvSpPr/>
            <p:nvPr/>
          </p:nvSpPr>
          <p:spPr>
            <a:xfrm>
              <a:off x="255600" y="0"/>
              <a:ext cx="258840" cy="684540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76280" y="0"/>
              <a:ext cx="404640" cy="466740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9200" y="0"/>
              <a:ext cx="1173240" cy="335268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39560" y="0"/>
              <a:ext cx="330120" cy="388620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41520" y="1467000"/>
              <a:ext cx="569880" cy="121932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0800" y="1409760"/>
              <a:ext cx="9342360" cy="13320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7040" y="1409760"/>
              <a:ext cx="963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458640" y="6411960"/>
            <a:ext cx="3578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ternehmensberatung R. Lind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63080" y="6377040"/>
            <a:ext cx="15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7504200" y="755640"/>
            <a:ext cx="194796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ernehmensberatung R. Lind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-Gg.-Stauber-Str. 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253 Schnaittenb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09622 / 55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 txBox="1"/>
          <p:nvPr/>
        </p:nvSpPr>
        <p:spPr>
          <a:xfrm>
            <a:off x="5106960" y="6386400"/>
            <a:ext cx="45626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\AUFTRWIN\AUFTRWIN.PPT Seite </a:t>
            </a:r>
            <a:fld id="{DDCB0E52-DF25-4F31-BEB6-75C8AA1B1C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851120" cy="81288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57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trWin 5.0 Kurzbeschrei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3429000"/>
            <a:ext cx="90676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ftrWin bietet Rechnerunterstützung für folgende kaufmännischen Funk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alverw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inkauf, Anfragen, Bestel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tikel, Katego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kauf, Angebote, Rechn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 folgende Kurzauflistung der einzelnen Bereiche stellt einen Überblick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ktionen dar, zum detaillierteren Kennenlernen steht eine Demo-Version 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fügung, die wir Ihnen auf Anfrage gerne präsentieren und/oder installi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trags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ftrags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ür die Überwachung der zu zahlenden Beträ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chtige Auftragsdaten im über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hnungs-, Zahlungsdatum, Beträge unter Berücksichtigung evtl. Skontoabzü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h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hrstufiges Mahnwesen mit optionaler Berechnung von Mahngebüh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ahlungsüberwa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Überblick über die offenen P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hkalk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ftrags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undenauswahl per Mausk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rsand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i abweichender Liefer- und Rechnungs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chtige Auftragsdaten im über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rkäufer, Bestelldatum,  Lieferdatum, Versandart, Rechnungsda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i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enfacher Vergleich der Ist- und Soll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opier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responden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re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ressauswahl per Mausk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ienbrieffunk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bellen / Grafi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nbindung von Grafiken und Tabellen (OLE-Objek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swahl von Standardtexten per Mausk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viduelle Änder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sti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ur Strukturierung der Artik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tleitza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iertes Postleitzahlenverzeich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port / 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schnitt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bauste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Übernahme von vordefinierten Textbausteinenen als Einleitungs- und Schluß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ückl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nstufige Stücklistenabbild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mm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schr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nstellungsda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rsicherungsnu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merk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jektzeit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ür den mitarbeiterbezogenen Projektüberb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rlaubs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rwaltung der genommenen Urlaubstage und des Restanspruc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99120" y="2498760"/>
            <a:ext cx="3803760" cy="2854440"/>
            <a:chOff x="5199120" y="2498760"/>
            <a:chExt cx="3803760" cy="285444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0376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89480" y="2543040"/>
              <a:ext cx="3610080" cy="275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mm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hn / Geha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benk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alkulatorischer L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m auch unproduktive Zeiten berücksichtigen zu kön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rknüpfung in den Artikelst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ür aktuelle Pre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199120" y="2498760"/>
            <a:ext cx="3803760" cy="2854440"/>
            <a:chOff x="5199120" y="2498760"/>
            <a:chExt cx="3803760" cy="28544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0376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289480" y="2543040"/>
              <a:ext cx="3610080" cy="275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fer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mm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schr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kverbindung, für den Überweisungsdruck oder Home-Ba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tikel des Liefera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eferbeding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m Skontoabzüge zu berücksicht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b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ür den automatischen Abzug bei der Bestel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199120" y="2498760"/>
            <a:ext cx="3803760" cy="2854440"/>
            <a:chOff x="5199120" y="2498760"/>
            <a:chExt cx="3803760" cy="28544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0376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289480" y="2543040"/>
              <a:ext cx="3610080" cy="275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el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stell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eferantenausw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rsand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i abweichender Liefer- und Rechnungs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chtige Bestelldaten im über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nkäufer, Bestelldatum,  Lieferdatum, Versand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iefeinleitung und -schlußtex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s Standardeinträgen auswähl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stellposi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 änderbaren Beschreibungstex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opier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9120" y="2498760"/>
            <a:ext cx="3803760" cy="2854440"/>
            <a:chOff x="5199120" y="2498760"/>
            <a:chExt cx="3803760" cy="285444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0376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289480" y="2543040"/>
              <a:ext cx="3610080" cy="275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ellübers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stell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ür die Überwachung der zu zahlenden Beträ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chtige Bestelldaten im über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hnungs-, Zahlungsdatum, Beträge unter Berücksichtigung evtl. Skontoabzü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Überweis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ahlungsträgerdruck oder Home-Banking (durch Eingabe einer D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ahlungsüberwac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Überblick über die offenen Pos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mm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tikelbezeichnung und Beschreib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hrwertsteuerkennzei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isänd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hnergestützte Ein- und Verkaufspreisänder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ückl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nstufige Stücklistenverwal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ür die Strukturierung der Angebote und Rechn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mmda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schr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eferbeding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m Skontoabzüge zu berücksichti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b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ür den automatischen Abzug bei der Auftragsbearbeit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334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trä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46320" y="1828800"/>
            <a:ext cx="3800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ftrags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undenauswahl per Mausk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rsandad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i abweichender Liefer- und Rechnungsadr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chtige Auftragsdaten im über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rkäufer, Bestelldatum,  Lieferdatum, Versandart, Rechnungsdat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iefeinleitung und -schlußtex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s Standardeinträgen auswähl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stellposi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 änderbaren Beschreibungstex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opier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99120" y="2498760"/>
            <a:ext cx="3813120" cy="2863800"/>
            <a:chOff x="5199120" y="2498760"/>
            <a:chExt cx="3813120" cy="28638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99120" y="2498760"/>
              <a:ext cx="3813120" cy="28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289480" y="2543040"/>
              <a:ext cx="361944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land Lindner</dc:creator>
  <dc:description/>
  <dc:language>en-US</dc:language>
  <cp:lastModifiedBy>LindnerR</cp:lastModifiedBy>
  <cp:revision>0</cp:revision>
  <dc:subject>Kurzvorstellung</dc:subject>
  <dc:title>AuftrWin 4.7</dc:title>
</cp:coreProperties>
</file>